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B4F-8672-42B5-9DF0-E57BB298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61B-EAD3-4EAA-9019-2107FB9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31D-31B4-45B5-A204-E903D6E8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B3F-648A-4CCD-B3FD-C56FC838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5CF-68C5-400B-85AA-6A25735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DAA-53B9-424C-A7A2-DBC464A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948-AA6D-45AF-8B8C-2CBF11C8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602-D6D8-4911-968E-70E7487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3F3-501F-4E3F-97B1-C98518FF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D92-3151-4322-BAB8-35D8606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1DD-602B-485A-A81F-96F3BA0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41D-57F6-43AA-BB21-9519273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7D8C-137A-447D-A8E6-A7092E8F7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924-843A-40DC-B7DA-F36295F7451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600" spc="-1" strike="noStrike">
                <a:solidFill>
                  <a:srgbClr val="10253f"/>
                </a:solidFill>
                <a:latin typeface="Calibri"/>
              </a:rPr>
              <a:t>KIJIJI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roup 2: Takeshwar Rai, Brett Payne, Cindy Wong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essie Gwynne, Michelle Mah</a:t>
            </a:r>
            <a:r>
              <a:rPr b="0" lang="en-CA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331720"/>
            <a:ext cx="32004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828440"/>
            <a:ext cx="3809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3400" y="20570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2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bbq.jpg"/>
          <p:cNvPicPr/>
          <p:nvPr/>
        </p:nvPicPr>
        <p:blipFill>
          <a:blip r:embed="rId1"/>
          <a:stretch/>
        </p:blipFill>
        <p:spPr>
          <a:xfrm>
            <a:off x="5791320" y="1620720"/>
            <a:ext cx="2504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2209320"/>
            <a:ext cx="5867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vs.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balance-scale.jpg"/>
          <p:cNvPicPr/>
          <p:nvPr/>
        </p:nvPicPr>
        <p:blipFill>
          <a:blip r:embed="rId1"/>
          <a:stretch/>
        </p:blipFill>
        <p:spPr>
          <a:xfrm>
            <a:off x="6019920" y="4572000"/>
            <a:ext cx="2209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3360" y="25146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14:18Z</dcterms:modified>
  <cp:revision>14</cp:revision>
  <dc:subject/>
  <dc:title>KIJIJI</dc:title>
</cp:coreProperties>
</file>